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6CE-8577-4D94-9056-71679B56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D2D-9E05-4177-8092-303AA92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A81-AE37-4922-A7D5-EC675F7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C12-D1B6-4844-8DF0-200FE29D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E59-5E1F-43EF-9C0D-927D42B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186-32A9-4505-A09D-CD6CF936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97C-CDC4-44A6-B79A-F9E770F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457-2B51-4888-A4E4-5239718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F0C-D654-407A-8B4B-26F339C3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13-C2E5-445E-A367-912B1EE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0A2-0286-47E0-830C-415D877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728-6219-4518-BD53-482B29B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D433-3EED-4BF0-9A23-E610B94A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erman-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German Wine Festiv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9880" y="152280"/>
            <a:ext cx="741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rm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ustoms and Tradi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son Knapczy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: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hotchkissdesign.com/blog/wp-content/uploads/2011/01/wineBottleSyrahGrandFirepeakCuvee.jpg"/>
          <p:cNvPicPr/>
          <p:nvPr/>
        </p:nvPicPr>
        <p:blipFill>
          <a:blip r:embed="rId2"/>
          <a:stretch/>
        </p:blipFill>
        <p:spPr>
          <a:xfrm>
            <a:off x="762120" y="4038480"/>
            <a:ext cx="15714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perthproductphotography.com.au/wp-content/gallery/wine-bottle-photography/wine-bottle-photography-1.jpg"/>
          <p:cNvPicPr/>
          <p:nvPr/>
        </p:nvPicPr>
        <p:blipFill>
          <a:blip r:embed="rId3"/>
          <a:stretch/>
        </p:blipFill>
        <p:spPr>
          <a:xfrm>
            <a:off x="6858000" y="4038480"/>
            <a:ext cx="1525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52600" y="28954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travelsignposts.com/wordpress/germany/german-wine-beer-festivals-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95280" y="1916280"/>
            <a:ext cx="64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germanytourism.co.uk/EGB/attractions_events/event_highlights_wine_festival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52520" y="3849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krolltravel.com/TravelNews/tn200708029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713760" y="47782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950640" y="135252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9920" y="5486400"/>
            <a:ext cx="51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images.search.yahoo.com/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90720" y="457200"/>
            <a:ext cx="72388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2f2f2"/>
                </a:solidFill>
                <a:uFillTx/>
                <a:latin typeface="Arial"/>
              </a:rPr>
              <a:t>German 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8000" y="1527120"/>
            <a:ext cx="718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ity in German has their own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they do. The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ually held in the month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and September. T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stival is held form Berli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ne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age Detail"/>
          <p:cNvPicPr/>
          <p:nvPr/>
        </p:nvPicPr>
        <p:blipFill>
          <a:blip r:embed="rId1"/>
          <a:stretch/>
        </p:blipFill>
        <p:spPr>
          <a:xfrm>
            <a:off x="990720" y="4237200"/>
            <a:ext cx="3671640" cy="24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mage Detail"/>
          <p:cNvPicPr/>
          <p:nvPr/>
        </p:nvPicPr>
        <p:blipFill>
          <a:blip r:embed="rId2"/>
          <a:stretch/>
        </p:blipFill>
        <p:spPr>
          <a:xfrm>
            <a:off x="5257800" y="2133720"/>
            <a:ext cx="36576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man Wine Festival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517200" y="1752480"/>
            <a:ext cx="21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755360" y="2971800"/>
            <a:ext cx="708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stival is usually hel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week of August.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tival involves beer and wine. One million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this festival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. There is live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hows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enterta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Image Detail"/>
          <p:cNvPicPr/>
          <p:nvPr/>
        </p:nvPicPr>
        <p:blipFill>
          <a:blip r:embed="rId1"/>
          <a:stretch/>
        </p:blipFill>
        <p:spPr>
          <a:xfrm>
            <a:off x="6095880" y="1406520"/>
            <a:ext cx="2382840" cy="22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age Detail"/>
          <p:cNvPicPr/>
          <p:nvPr/>
        </p:nvPicPr>
        <p:blipFill>
          <a:blip r:embed="rId2"/>
          <a:stretch/>
        </p:blipFill>
        <p:spPr>
          <a:xfrm>
            <a:off x="5299200" y="4216320"/>
            <a:ext cx="2558880" cy="264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 Detail"/>
          <p:cNvPicPr/>
          <p:nvPr/>
        </p:nvPicPr>
        <p:blipFill>
          <a:blip r:embed="rId3"/>
          <a:stretch/>
        </p:blipFill>
        <p:spPr>
          <a:xfrm>
            <a:off x="115920" y="1371600"/>
            <a:ext cx="1596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Wine Festivals in Ger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80360" y="3889440"/>
            <a:ext cx="5606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rgest wine festival is hel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Duerkheim, which is n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delberg. The festival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September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more than 600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es from all over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Image Detail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 Detail"/>
          <p:cNvPicPr/>
          <p:nvPr/>
        </p:nvPicPr>
        <p:blipFill>
          <a:blip r:embed="rId2"/>
          <a:stretch/>
        </p:blipFill>
        <p:spPr>
          <a:xfrm>
            <a:off x="5708520" y="3962520"/>
            <a:ext cx="3417840" cy="260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Image Detail"/>
          <p:cNvPicPr/>
          <p:nvPr/>
        </p:nvPicPr>
        <p:blipFill>
          <a:blip r:embed="rId3"/>
          <a:stretch/>
        </p:blipFill>
        <p:spPr>
          <a:xfrm>
            <a:off x="5708520" y="993600"/>
            <a:ext cx="2838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80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ine River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4786200" y="1386000"/>
            <a:ext cx="443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500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ine River festivals.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fferent with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ds of wines and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that happen at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festivals.The old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grower cooperation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 Detail"/>
          <p:cNvPicPr/>
          <p:nvPr/>
        </p:nvPicPr>
        <p:blipFill>
          <a:blip r:embed="rId1"/>
          <a:stretch/>
        </p:blipFill>
        <p:spPr>
          <a:xfrm>
            <a:off x="152280" y="1386000"/>
            <a:ext cx="4491000" cy="249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age Detail"/>
          <p:cNvPicPr/>
          <p:nvPr/>
        </p:nvPicPr>
        <p:blipFill>
          <a:blip r:embed="rId2"/>
          <a:stretch/>
        </p:blipFill>
        <p:spPr>
          <a:xfrm>
            <a:off x="2133720" y="4368960"/>
            <a:ext cx="6838920" cy="2317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79360" y="39020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hosts its wine festival In Mayschos on the Rhine river on October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185560" y="1501920"/>
            <a:ext cx="660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rmany has hundreds of wine harv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lebrations. The festivals are hel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of Germany's most scenic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is always some form of music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festi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mage Detail"/>
          <p:cNvPicPr/>
          <p:nvPr/>
        </p:nvPicPr>
        <p:blipFill>
          <a:blip r:embed="rId1"/>
          <a:stretch/>
        </p:blipFill>
        <p:spPr>
          <a:xfrm>
            <a:off x="304920" y="747720"/>
            <a:ext cx="1400040" cy="558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 Detail"/>
          <p:cNvPicPr/>
          <p:nvPr/>
        </p:nvPicPr>
        <p:blipFill>
          <a:blip r:embed="rId2"/>
          <a:stretch/>
        </p:blipFill>
        <p:spPr>
          <a:xfrm>
            <a:off x="3048120" y="3714840"/>
            <a:ext cx="48006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2760" y="2057400"/>
            <a:ext cx="633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stivals also include some of German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food. Like sausage, pretzels, mea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eses. The festival “ Federweisse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elebrating the arrival of the new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kes place in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age Detail"/>
          <p:cNvPicPr/>
          <p:nvPr/>
        </p:nvPicPr>
        <p:blipFill>
          <a:blip r:embed="rId1"/>
          <a:stretch/>
        </p:blipFill>
        <p:spPr>
          <a:xfrm>
            <a:off x="33480" y="52560"/>
            <a:ext cx="2176200" cy="200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 Detail"/>
          <p:cNvPicPr/>
          <p:nvPr/>
        </p:nvPicPr>
        <p:blipFill>
          <a:blip r:embed="rId2"/>
          <a:stretch/>
        </p:blipFill>
        <p:spPr>
          <a:xfrm>
            <a:off x="6243480" y="1600200"/>
            <a:ext cx="2800440" cy="22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Image Detail"/>
          <p:cNvPicPr/>
          <p:nvPr/>
        </p:nvPicPr>
        <p:blipFill>
          <a:blip r:embed="rId3"/>
          <a:stretch/>
        </p:blipFill>
        <p:spPr>
          <a:xfrm>
            <a:off x="4495680" y="4267080"/>
            <a:ext cx="33372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mage Detail"/>
          <p:cNvPicPr/>
          <p:nvPr/>
        </p:nvPicPr>
        <p:blipFill>
          <a:blip r:embed="rId4"/>
          <a:stretch/>
        </p:blipFill>
        <p:spPr>
          <a:xfrm>
            <a:off x="1371600" y="4000680"/>
            <a:ext cx="194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23360" y="170028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out how Many different festivals are on the Rhine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20120" y="4038480"/>
            <a:ext cx="74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re is the largest wine festival held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73520" y="2286000"/>
            <a:ext cx="150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3,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082520" y="4724280"/>
            <a:ext cx="284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Bad Due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nsw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0320" y="19098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out how Many different festivals are on the Rhine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30320" y="4038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re is the largest wine festival held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760400" y="29354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770480" y="518148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 Bad Duerkhe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1752480" y="2987640"/>
            <a:ext cx="457200" cy="417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752480" y="5234040"/>
            <a:ext cx="457200" cy="417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32:16Z</dcterms:created>
  <dc:creator>SCSadmin</dc:creator>
  <dc:description/>
  <dc:language>en-US</dc:language>
  <cp:lastModifiedBy>Ron and Deanna</cp:lastModifiedBy>
  <dcterms:modified xsi:type="dcterms:W3CDTF">2011-11-09T02:54:52Z</dcterms:modified>
  <cp:revision>12</cp:revision>
  <dc:subject/>
  <dc:title>German Wine Festival</dc:title>
</cp:coreProperties>
</file>